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9E1-2D45-47B1-9A88-1F711128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ED4-F121-4403-8424-C483158F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884-EF47-40FA-92B2-3347EF91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EEA-C19B-45C5-8DCD-3851FD35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9CD-C11C-4022-BDA5-58493574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DA0-3739-4912-A50F-99844CF2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844-9FAE-4781-A860-0075B6ED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06F-49B6-4313-8E55-F80FB513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028-E09A-4B03-A2B3-B3F45C12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599-4AED-4C23-A020-44E599D6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3F0-60A1-4769-84B8-765281B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48B-94E9-4399-B790-EF41D28B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57CD-6CD1-4D8D-BA65-AE4E121D7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td_razr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54100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ификатор «ЭльбРУС 9210»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kia 921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10i Communicator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ифика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Key B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IOPEIA BE-300 Pocket Manager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ксессуары для карманных компьюте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762120"/>
            <a:ext cx="4495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рманные компьютеры в телекоммуникац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еминар компании МакЦент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ыставка «Связь-Экспокомм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6 мая 2002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724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-аппаратные разработки компа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Цен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www.HPC.ru/m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td_razr" descr=""/>
          <p:cNvPicPr/>
          <p:nvPr/>
        </p:nvPicPr>
        <p:blipFill>
          <a:blip r:embed="rId1"/>
          <a:stretch/>
        </p:blipFill>
        <p:spPr>
          <a:xfrm>
            <a:off x="0" y="-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PS-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виг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www.HPC.ru/a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981080"/>
            <a:ext cx="4495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бель для подключения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PS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риемника к карманному компьюте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65760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Перспективная разработк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бель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PS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риемник - КПК с питанием обоих устройств от бортовой сети автомоби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gps-ca125-02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gps-ip360-01power" descr=""/>
          <p:cNvPicPr/>
          <p:nvPr/>
        </p:nvPicPr>
        <p:blipFill>
          <a:blip r:embed="rId3"/>
          <a:stretch/>
        </p:blipFill>
        <p:spPr>
          <a:xfrm>
            <a:off x="5486400" y="38862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td_razr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0" y="35683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чество русификатора «ЭльбРУС 9210» подтверждено сертификатом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kia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182880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92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okia 9210i Communicato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lbrus_cd1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4190760" cy="4127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66880" y="457200"/>
            <a:ext cx="5334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Русификатор ЭльбРУС 92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5715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www.HPC.ru/92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td_razr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520" y="1447560"/>
            <a:ext cx="4952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лектронная почта и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MS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Интернет и документы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Интерфейс операционной системы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 русском язы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" descr=""/>
          <p:cNvPicPr/>
          <p:nvPr/>
        </p:nvPicPr>
        <p:blipFill>
          <a:blip r:embed="rId2"/>
          <a:stretch/>
        </p:blipFill>
        <p:spPr>
          <a:xfrm>
            <a:off x="0" y="1569960"/>
            <a:ext cx="39625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Web_1" descr=""/>
          <p:cNvPicPr/>
          <p:nvPr/>
        </p:nvPicPr>
        <p:blipFill>
          <a:blip r:embed="rId3"/>
          <a:stretch/>
        </p:blipFill>
        <p:spPr>
          <a:xfrm>
            <a:off x="3875040" y="3352680"/>
            <a:ext cx="5268960" cy="1646280"/>
          </a:xfrm>
          <a:prstGeom prst="rect">
            <a:avLst/>
          </a:prstGeom>
          <a:ln w="0">
            <a:noFill/>
          </a:ln>
        </p:spPr>
      </p:pic>
      <p:pic>
        <p:nvPicPr>
          <p:cNvPr id="56" name="word" descr=""/>
          <p:cNvPicPr/>
          <p:nvPr/>
        </p:nvPicPr>
        <p:blipFill>
          <a:blip r:embed="rId4"/>
          <a:stretch/>
        </p:blipFill>
        <p:spPr>
          <a:xfrm>
            <a:off x="0" y="4091040"/>
            <a:ext cx="6172200" cy="192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1520" y="6172200"/>
            <a:ext cx="82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БЕСПЛАТНО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Англо-русский словарь «Контекст» и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IP 9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57200"/>
            <a:ext cx="5334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Русификатор ЭльбРУС 92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514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www.HPC.ru/92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td_razr" descr=""/>
          <p:cNvPicPr/>
          <p:nvPr/>
        </p:nvPicPr>
        <p:blipFill>
          <a:blip r:embed="rId1"/>
          <a:stretch/>
        </p:blipFill>
        <p:spPr>
          <a:xfrm>
            <a:off x="0" y="-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9880" y="1447920"/>
            <a:ext cx="48769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RussKey 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усификато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«народного» КП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SSIOPE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E-300 Pocket Mana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E300_a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522600" cy="5243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457200"/>
            <a:ext cx="5334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Русификатор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ussKey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5791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www.BE-300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td_razr" descr=""/>
          <p:cNvPicPr/>
          <p:nvPr/>
        </p:nvPicPr>
        <p:blipFill>
          <a:blip r:embed="rId1"/>
          <a:stretch/>
        </p:blipFill>
        <p:spPr>
          <a:xfrm>
            <a:off x="0" y="-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67080" y="342864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лектронная почта и Интернет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олный набор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русифицированных приложений 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омпактный и лег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d_be300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182840" cy="4092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8640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www.BE-300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457200"/>
            <a:ext cx="5334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Русификатор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ussKey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td_razr" descr=""/>
          <p:cNvPicPr/>
          <p:nvPr/>
        </p:nvPicPr>
        <p:blipFill>
          <a:blip r:embed="rId1"/>
          <a:stretch/>
        </p:blipFill>
        <p:spPr>
          <a:xfrm>
            <a:off x="0" y="-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Аксессуары для карманных компьют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5667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www.HPC.ru/a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16002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Портативная клави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E_200GFL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254320" cy="3505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352680" y="4495680"/>
            <a:ext cx="4953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Питание и зарядка аккумуля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20968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Синхронизация с 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36576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PS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виг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2895480"/>
            <a:ext cx="5334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Подключение внешних устр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66880" y="1828800"/>
            <a:ext cx="1981440" cy="5335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66880" y="2590920"/>
            <a:ext cx="1143000" cy="304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90920" y="3276360"/>
            <a:ext cx="838080" cy="2286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90920" y="4038120"/>
            <a:ext cx="1143000" cy="3049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90920" y="4876560"/>
            <a:ext cx="1066680" cy="2286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td_razr" descr=""/>
          <p:cNvPicPr/>
          <p:nvPr/>
        </p:nvPicPr>
        <p:blipFill>
          <a:blip r:embed="rId1"/>
          <a:stretch/>
        </p:blipFill>
        <p:spPr>
          <a:xfrm>
            <a:off x="0" y="-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Адаптер портативной клавиа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5835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www.HPC.ru/a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828800"/>
            <a:ext cx="4495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даптер клави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lm III 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ля современных карманных компьюте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lm m500/m515/m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mpaq iPAQ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любой мо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P Jornada 565/568/5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ny CLIE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любой модели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Keyboard_m500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4038480" cy="2625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5029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Двойная экономия без ущерба функциональност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td_razr" descr=""/>
          <p:cNvPicPr/>
          <p:nvPr/>
        </p:nvPicPr>
        <p:blipFill>
          <a:blip r:embed="rId1"/>
          <a:stretch/>
        </p:blipFill>
        <p:spPr>
          <a:xfrm>
            <a:off x="0" y="-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Синхронизация и внешние устро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www.HPC.ru/a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3716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B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бель для скоростной синхр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usb-ip360-01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2860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2438280"/>
            <a:ext cx="449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B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бель с функцией зарядки батареи – использует шину питания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B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usb-pa500-01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2860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920" y="3962520"/>
            <a:ext cx="4495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бель для синхронизации по последовательному порту и подключения внешних устр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com-ca125-01" descr=""/>
          <p:cNvPicPr/>
          <p:nvPr/>
        </p:nvPicPr>
        <p:blipFill>
          <a:blip r:embed="rId4"/>
          <a:stretch/>
        </p:blipFill>
        <p:spPr>
          <a:xfrm>
            <a:off x="5867280" y="41148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td_razr" descr=""/>
          <p:cNvPicPr/>
          <p:nvPr/>
        </p:nvPicPr>
        <p:blipFill>
          <a:blip r:embed="rId1"/>
          <a:stretch/>
        </p:blipFill>
        <p:spPr>
          <a:xfrm>
            <a:off x="0" y="-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итание и зарядка аккумулято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www.HPC.ru/a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3623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Портативное зарядное устройство от 100 до 240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733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Автомобильное зарядное устрой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da-sn300-01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aut-pa500-01" descr=""/>
          <p:cNvPicPr/>
          <p:nvPr/>
        </p:nvPicPr>
        <p:blipFill>
          <a:blip r:embed="rId3"/>
          <a:stretch/>
        </p:blipFill>
        <p:spPr>
          <a:xfrm>
            <a:off x="5638680" y="350532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4:41:47Z</dcterms:created>
  <dc:creator>Andrew Kouznetsov</dc:creator>
  <dc:description/>
  <dc:language>en-US</dc:language>
  <cp:lastModifiedBy>Andrew Kouznetsov</cp:lastModifiedBy>
  <dcterms:modified xsi:type="dcterms:W3CDTF">2002-05-15T17:22:02Z</dcterms:modified>
  <cp:revision>5</cp:revision>
  <dc:subject/>
  <dc:title>Русификатор «ЭльбРУС 9210» для Nokia 9210 и 9210i Communicator Русификатор RussKey BE для CASSIOPEIA BE-300 Pocket Manager  Аксессуары для карманных компьютеров</dc:title>
</cp:coreProperties>
</file>